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9871075" cy="1412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12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32304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98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012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32304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79880" y="510480"/>
            <a:ext cx="8640720" cy="9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.wmf"/><Relationship Id="rId8" Type="http://schemas.openxmlformats.org/officeDocument/2006/relationships/image" Target="../media/image1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712800"/>
            <a:ext cx="234000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63520" y="177948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82600" y="11160000"/>
            <a:ext cx="2343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200240" y="85716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63520" y="1384200"/>
            <a:ext cx="237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PETROBR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80496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436680" y="11291760"/>
          <a:ext cx="2090520" cy="4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680" y="11291760"/>
                    <a:ext cx="20905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3576600" y="712800"/>
            <a:ext cx="234000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557520" y="177948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576600" y="11160000"/>
            <a:ext cx="2343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4494240" y="85716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3557520" y="1384200"/>
            <a:ext cx="2376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PETROBR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16200000">
            <a:off x="248868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" name=""/>
          <p:cNvGraphicFramePr/>
          <p:nvPr/>
        </p:nvGraphicFramePr>
        <p:xfrm>
          <a:off x="3730680" y="11291760"/>
          <a:ext cx="2090520" cy="45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0680" y="11291760"/>
                    <a:ext cx="20905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" name=""/>
          <p:cNvSpPr/>
          <p:nvPr/>
        </p:nvSpPr>
        <p:spPr>
          <a:xfrm>
            <a:off x="6672240" y="712800"/>
            <a:ext cx="2340000" cy="1115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653160" y="177948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672240" y="11160000"/>
            <a:ext cx="2343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8"/>
          <a:stretch/>
        </p:blipFill>
        <p:spPr>
          <a:xfrm>
            <a:off x="7589880" y="85716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20" name=""/>
          <p:cNvSpPr/>
          <p:nvPr/>
        </p:nvSpPr>
        <p:spPr>
          <a:xfrm>
            <a:off x="6653160" y="1384200"/>
            <a:ext cx="2376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PETROBR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 rot="16200000">
            <a:off x="5584320" y="31359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6826320" y="11291760"/>
          <a:ext cx="2090520" cy="45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26320" y="11291760"/>
                    <a:ext cx="20905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57520" y="5824440"/>
            <a:ext cx="237672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Estudo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- EIA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Campo de Albacora Leste - UN-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Tahoma"/>
              </a:rPr>
              <a:t>Vol.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3520" y="5824440"/>
            <a:ext cx="2376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Estudo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- EIA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Campo de Albacora Leste - UN-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600" spc="-1" strike="noStrike">
                <a:solidFill>
                  <a:srgbClr val="0f0a7c"/>
                </a:solidFill>
                <a:latin typeface="Tahoma"/>
              </a:rPr>
              <a:t>Vol.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520" y="10288440"/>
            <a:ext cx="237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52840" y="10288440"/>
            <a:ext cx="237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4720" y="10288440"/>
            <a:ext cx="237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53160" y="5824440"/>
            <a:ext cx="237672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Arial"/>
              </a:rPr>
              <a:t>Estudo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Arial"/>
              </a:rPr>
              <a:t>- EIA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Arial"/>
              </a:rPr>
              <a:t>Campo de Albacora Leste - UN-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pt-BR" sz="1600" spc="-1" strike="noStrike">
                <a:solidFill>
                  <a:srgbClr val="0f0a7c"/>
                </a:solidFill>
                <a:latin typeface="Tahoma"/>
              </a:rPr>
              <a:t>Vol.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4:09:42Z</dcterms:created>
  <dc:creator>E&amp;P</dc:creator>
  <dc:description/>
  <dc:language>en-US</dc:language>
  <cp:lastModifiedBy>HABTEC</cp:lastModifiedBy>
  <cp:lastPrinted>2001-10-17T20:12:51Z</cp:lastPrinted>
  <dcterms:modified xsi:type="dcterms:W3CDTF">2002-12-18T15:58:11Z</dcterms:modified>
  <cp:revision>45</cp:revision>
  <dc:subject/>
  <dc:title>Slide sem título </dc:title>
</cp:coreProperties>
</file>